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06F-0649-44D5-A93B-4BA37E11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178-ED70-4BE4-8C82-FA1DE6F5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785-F3BD-4EEF-BCE4-2FAD0C55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2EA-8DF2-4045-B1E4-73355D50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9713-B024-492D-A457-BBD32CDB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6C8C-7034-44C9-9322-B63862DC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8EF8-2B34-49F4-A3C3-2C990C6A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7524-8820-4855-A51E-759C158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9AE-0FC9-408E-9EC7-211EFFD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B6AF-E620-4BB2-8F0E-DB668CD2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B8DB-E6EA-4AA5-893B-333B3AEC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CC2-BC41-4682-AA17-C679756F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A061-B4DA-4916-A8C4-76217E1E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4AD9-35AA-4EC7-8BDE-9111373C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1BB-1AAE-4936-8275-593B1D00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3BB-4D40-461A-94F4-C88D09B6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27BD-609C-4A1B-9E0C-96C9DD3F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1676-911D-4468-9F15-7CE20F98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3C5A-D52D-43AC-95F0-A975A600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C388-C573-45C6-B959-E9F3C27D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A171-F83C-4FBE-A708-407116A0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F778-E8F0-41E6-8695-5C61C79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AC2-D64C-4F8F-BB18-AEA56938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7305-FE53-4A6D-9E8E-1EDD42B7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3504-4B06-4BFB-99D6-503D17CD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DDC7-D557-4F4D-8632-87A2979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5747-F7B3-4FC2-92E9-377AF16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BBD2-85B9-49E4-AC26-40E1C513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5C9E-7987-4EFF-9328-77E0E566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31E6-8B39-41F6-AD18-BC20F4C2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E23-F7F2-4869-9CD2-7C5A5BBE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259-C275-4F23-BCCA-BC9E34E7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226-F749-4BEC-ADB4-CA1B1D90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E51-3FB8-491A-8F91-C3225B3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912-A076-4395-AD7A-A7AF71E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E2A-8ABB-4339-B461-277AE067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79D8-9982-44F5-AF69-D0377617D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F2F9-E497-4301-94B6-4D8C14C4E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8F24-BD58-4F7E-8F35-67554612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 Heard a Fly Buzz – When I Died –”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ly Dicki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Heard a Fly Buzz – When I Died –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aker on brink of dea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 the light – and m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y =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s in last two li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n the Windows failed – and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ould not see to se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Heard a Fly Buzz – When I Died –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yes around – had wrung them dry –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ed people cr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g =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ed my Keepsak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a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verall Mess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s what happens at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like a f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still present despite her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n the Windows failed – and then/ I could not see to see –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6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 rot="922200">
            <a:off x="5867280" y="13716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 rot="933000">
            <a:off x="7162560" y="25909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14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91320" y="1523880"/>
            <a:ext cx="2800080" cy="29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37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276720" y="5638680"/>
            <a:ext cx="990360" cy="911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419720" y="5562720"/>
            <a:ext cx="976320" cy="99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828800" y="54100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58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08819 -0.05324 C 0.1066 -0.06528 0.13438 -0.07199 0.16319 -0.07199 C 0.19601 -0.07199 0.2224 -0.06528 0.2408 -0.05324 L 0.32917 2.59259E-006 E">
                                      <p:cBhvr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13873E-006 L 0.10608 -0.05318 C 0.12847 -0.0652 0.16181 -0.07191 0.19653 -0.07191 C 0.23611 -0.07191 0.26771 -0.0652 0.29011 -0.05318 L 0.3967 -2.13873E-006 E">
                                      <p:cBhvr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204 L 0.12691 -0.05023 C 0.15382 -0.06435 0.19357 -0.07199 0.23524 -0.07199 C 0.28264 -0.07199 0.32066 -0.06435 0.34757 -0.05023 L 0.475 0.01204 E">
                                      <p:cBhvr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95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mily Dickins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n: 183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d: 18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n in Amherst, Massachus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 educated and pol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etic ch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d herself from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ed to leave 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ed with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 poems published during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ckinson’s Poet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bout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ote 1,775 po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t four to Thomas Higginson, a cri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d punc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ven meter and rhy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0:33:51Z</dcterms:created>
  <dc:creator>Nicholas Dyszel</dc:creator>
  <dc:description/>
  <dc:language>en-US</dc:language>
  <cp:lastModifiedBy>PA Department of Education</cp:lastModifiedBy>
  <dcterms:modified xsi:type="dcterms:W3CDTF">2008-05-12T11:18:29Z</dcterms:modified>
  <cp:revision>9</cp:revision>
  <dc:subject/>
  <dc:title>I Heard a Fly Buzz – When I Died –</dc:title>
</cp:coreProperties>
</file>